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BC5-C7C6-4120-BCC2-ACFF9BB8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A03-B18F-4AFB-A828-34A4FE56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AF6D6-3C78-4380-98C7-1EA5C5C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6EDFB-FB28-485C-BBFF-9EE5C6E5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96701-9547-4DC9-86E7-A4491659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3618F-C760-471E-8D5B-AFDA9D64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B09D0-BED4-44C2-AE1D-B1ED1CE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309E1-C6DA-49B1-B66F-35DB129E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A024B-1004-47E0-8666-26DEC72D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A1037-3E48-4764-A943-6FB2267B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1C7C2-6AC1-49E0-B90D-00232DA3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3F817-0862-4604-A819-0F2C7A7B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EAD-205B-4054-99B5-5D5116AF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89F2E-2602-4B85-8501-2F1CE3AA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B7FA9-78CC-4271-BDFE-FC637D69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12A82-2CCE-4B20-9F0A-A2D2B927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D7FE1-7AA0-47AB-997E-7DC5B9A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CA8A8-4BC3-4959-9DA0-117B1593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9CB7A-D8D7-438F-84B3-2514510F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7E302-1542-4AB3-86E3-E93579E4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9A1B0-0B9B-4566-A9EF-CCB45E9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6BBCE-C8DF-47D5-A8A0-31F963B6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FF435-D756-4867-9555-DFC116D6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77F-ACB4-49D0-87AE-DC9D686A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D0881-1F56-48F9-9382-BF973366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DD96E-4878-44EB-A7D5-2E1C0141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738AC-E62A-4819-B5BB-5F213DC2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91E80-9C94-4CE8-A898-BB36C5FD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B072B-1B3D-4391-BCC4-FF70CD38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76248-415F-4B97-8086-26B0DE1D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C342F-B09D-423B-BC9A-75694F62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E95C9-392C-4C8B-8083-5D0C004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38FBC-0716-4739-B43F-1188B3E6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A9F0D-490C-4414-B090-AF8A3285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6F11-F2D6-4398-9D99-CE8F5586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E676B-8680-4F8E-B7EE-70E8874F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C53F6-5B4C-4043-8023-22BC489B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8EAB2-8E8A-49BF-83E6-DDE523C1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11D61-0F40-4366-A770-A659704A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C1CB8-36BB-4C4A-AFFE-27B8AEC7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E2775-0CBD-4F70-88A4-3DC18907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6608F-B83D-400D-A010-8C54AA19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A1E75-631D-4DFB-9D3B-727AC745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8F00D-ECB6-47A3-B42E-9626C9E3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65301-A57D-44F3-86A7-7FB5E5CD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B8B9-4D04-4276-9C19-3725E9B8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DB366-3A9A-4EEE-A778-EE73713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B0F65-7E36-4B8F-A384-D504ADC6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51F4C-582A-46F4-BD6B-EE8FAAD5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0B215-0582-4A5D-9725-155E15F3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7F48F-8E7D-4C5A-8D29-752357A6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50CD5-71EA-474A-AE25-408A19FE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4B5A7-29A6-4A23-A591-1F457AEF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97D5D-2339-4947-92AA-1BF6D412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4A0E7-E92C-43D2-8DF1-3A0A1F6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FCB3B-37BC-43AA-9CFD-3F30DC69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382B-4CD6-482A-A0B9-FDCBEA91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744E9-084B-412C-AC96-28477B63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FCC92-668E-4523-B773-D1D18F9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D0153-2F86-4D2E-9545-D0D0974F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D5954-92EB-4B4A-9F81-72B34303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3F8AA-E4C7-43CC-B843-C5CE5DBC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99F8A-53A3-45D0-95F6-89829E19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0674A-E1A2-4694-9FAF-FED19DAC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75FD2-36BE-4E7D-898D-C540E170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BAA52-3947-46FF-B264-F6037B4C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B2958-AE14-4ED6-AF0F-B2C43497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85D0-A244-43FB-A56A-7696C98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5CEFB-B2CD-4C89-9B79-26ABEEFD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65715-4A09-4384-9840-1559F7F0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AF1BF-A971-4D9C-B90C-52FE55D2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08C4E-89E4-49E1-A613-F1A8CB4A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67A34-5672-4DAB-ACDE-0CC4D8D3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0C88C-F4C4-476A-AEB0-BD126DC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1875F-A191-47E9-B691-CDABE0EA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CD116-6EB4-4FF4-907E-A51CD2EF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4033C-7582-4EC6-94FF-C50BA187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E45049-65FE-426F-BCAF-CD1C99A9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D335-08F8-4FAD-877A-5CFAEDC9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8F2FB-104B-4BCD-89B0-BBC40ED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DB1CB-27D9-40B0-A706-D74620A1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26C6E-2E74-487F-84ED-AC0D6FC0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5B45DF-459D-469F-822D-8E56CCE8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A5D89-1807-47DF-994F-524C1588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CC7EB-AE1A-4C1C-9BCB-C19DB1F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143F5-9EBB-471B-AFFA-3A0CC8E8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E5F83-F17E-4DFB-A966-869A055E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AAD6F-9BA6-4208-A49C-ECE0BD19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6CE9E-5E18-4722-BD10-A69EBF4D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5829-49E2-4544-8850-D52A85CE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587F3-64F3-4114-9544-9DFA46F2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05354-7B5A-441C-A9F7-9E203257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4D87B-EC04-4553-98A8-07F40AE1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B0DA7-BC1F-49AA-94A1-334422F0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C2B11-9F6A-483B-836E-F1EC1769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18278-EB6D-43CA-BF1B-A44C5C4D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8E7EE-5299-4777-AB43-85F0A1E3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8E703-E590-4590-AF32-CF55B803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6586B3-657C-4287-9680-967FEB5D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CA9B4-D978-470F-A6D8-2E26F56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EA93-7408-4D79-BEF4-355F3A09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3EA04-CBEC-4A4A-9694-9A52975B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BD9B5-10FE-4EC6-BF0D-5C7DA794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57D5E-A9DB-4379-9BA3-E0769FC4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85498-39E3-4812-978B-51205A5F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1EB81-AD64-4D0A-8F3C-FEEBAEF4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291AF-35FE-4C98-BFF1-8AD9ADAE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6B067-BB40-4B79-918E-C6384F2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90881-9F7E-480B-899D-8BE2EDE0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907C8-8A2F-42D9-A7FE-D2640889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187C2-AF3B-4BE7-BE77-AE21B409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2EE-FC12-4958-A9EF-867F9828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B469-531F-4073-9B89-F3CC209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F0F17-D1EC-4631-B774-CAEF070A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0CABC-AFE5-4670-BCC7-12DE1EC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62EBB-DBF5-4539-B5FC-C0D10DBF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87DFC-7DBA-461F-A034-0D8504AB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5F204-4E01-482E-BA5B-79C00D39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4C81D-855F-4EEE-BD8C-278BC4D7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3C58E-5F2A-4378-BEF9-E9A92181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2348C-FB0B-4C35-AB6C-FFF6CB53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B90630-175B-4084-837C-7D21DCF9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F9883-32C0-40C1-A6BB-ECA1396C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236D-FEF0-4965-AFC2-CB068B35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62F99-9347-455F-83CB-3A58073B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AEDC2B-1667-418E-AF77-29100D88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310A4-F5FC-4C08-9E17-419C173A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9B7D31-26B7-418E-A2BE-8DF5BA87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C277A-ACCC-421F-B5CE-68FD41E7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9CABD-34DC-46BB-B2A6-E031A5CA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A516C-4210-4902-B0FE-524F540E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7F911-0824-4CE2-92C8-F908944F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F7B9BA-6826-44A2-ACB4-B351501D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996F8-D260-4C78-B901-0D39EE6D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C032-B86A-4B84-90C9-E5712810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1F53CA-4802-4B5C-B0B8-349419AC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8B20ED-1D1D-4A34-A822-350F0EBE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36A42-5C2A-46BE-8623-92E62D40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84119-FDD6-4D22-A474-D7F946CE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EB48D-8BA5-48A5-BBCC-93263BC5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46516-6207-4E49-8C81-6159BB0D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EA2D8-56CA-4FC1-8648-F5233ACA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EB5C3-6C7F-4577-BC89-A7F75472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0BB07-8C45-47ED-97C9-57F41F1D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F5579-9D8F-4ABE-BE13-4A0924C1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CBA2-B8DF-48C5-A7BD-46A1743E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7538B9-89A5-411F-A725-8D218230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7C0599-702B-41B7-8319-C9E613A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AA43D-0811-4526-8E13-25D2AD31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BB344-7373-4598-BB2F-329B2C27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A3D3F-5AE1-4D06-B054-4C8E4A93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BF8C1-E986-4CD4-BCF7-922F1E02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9F986A-7A36-4545-AF1E-E6F35A5C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6CAAA-1338-489C-A95F-03C0905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1D081-A9F5-4F66-9A4D-AE20803C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92778-26DB-4F61-BEC7-C09ED7E0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F745-F294-481D-992B-5C400E08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B6714-6B48-4D92-ACA8-1C7EC42F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2529EA-2620-4650-99A2-0C363122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DE883-90B6-4E57-9F0A-FE601E31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C4DE59-D20F-4F95-B820-F4B54482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C4F8D5-1DEC-405A-BA15-C5BE177B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CF3758-30D7-4238-A3D9-03A44A2D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0D82D-7E01-470F-8BB0-5084824A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FD938-CE29-42CE-B34F-F3E4D19A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DCC028-7C0E-4EA0-A4E2-07031D41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30AACC-9161-4EC3-84AC-F29C1D81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4DB1-E484-4092-813B-ED736C14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411C7-85A8-4FB4-A2DD-8BE054AF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C9ED1A-B10F-42D0-BF30-3AFFC8A9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2B99C3-61B0-4C07-9DD4-B25F70A7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8390-7758-4EDE-91DA-6725877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1752-F74A-4876-B140-8A7C1394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064B-91DB-4BD0-B3AB-61D59BBC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BA601-105F-4D5C-B89E-61EA5F39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F5A-1643-4227-8B6E-20BE8468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EE051-71ED-4F70-AA1C-48ED7D9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FAAE-3849-4AF9-A8B9-127C2D76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5D39-1863-4C34-B261-1A8D3946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5BF5-B29F-48C7-A296-438A44D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C660-C20B-4287-89CA-FA895732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4AA1-BDF6-46F0-943F-33757F68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A1ED-8081-4AA6-A562-340C009C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63EEF-A7D4-44C3-AD04-F25E7A79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C5B2A-B867-405B-8A56-620AB03D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A51A-2C6C-4DBA-A8FE-46F891A9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B00-9991-40DA-AFDB-3DBEDB95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3AD9-1AB7-4832-A023-A2872742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10B5-9CA9-4E3E-BB11-EA30717D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E8AC6-13E0-4A21-9A13-F5764D25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E7E9-6C9A-42E6-809E-FE8887C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D7AC-1C82-44A0-ABAD-1260381C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192A-E7A2-4445-931F-1B75771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0A9F-7CAA-47FF-8375-884C2CE1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54CE-0422-4135-A663-67600428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3FF8-BBF1-4CC5-AC91-C937278F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9737F-14A2-4C3C-8BB1-4BC3AD77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9F6-79D1-4A34-9931-2A07358C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503BD-81F4-4466-924D-D16CF58F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612FD-63F1-48DD-8814-FBCD10E1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508E-4216-40F3-A95A-D7989EC0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BA3F-28F8-40C2-9534-22291C7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BEAA7-7D9E-46B0-94C4-0C3D3837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E74CF-4E88-4250-9332-C33218E9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A172-2ED9-43DE-BBC6-CA8EE5E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B0891-A584-4B46-BFB3-0FB2B402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D5D9E-9FE9-4B25-ADBD-C1D62741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C3A6A-53DD-4435-91EA-DD613B95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A8F-153A-4974-A695-7E7FB176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EF003-A7D7-4E83-8613-F5BCF270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1435A-270A-4F02-80C1-7F40DDDA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DF469-FE28-46C7-9993-FD5C40BF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15F3C-A374-474B-83E3-C28670F6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5BBC8-ACB6-40CB-A721-E6D8CB5E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4BE8E-3B47-4584-89C9-CD2F3D65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E0A35-9F88-4346-811E-17F38459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FDFDA-9D26-45E3-AFD5-930DCEB2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15097-A6CD-425E-9876-E56FBB6E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4BC6E-E48F-437E-9885-8629ECE7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BB6-8E15-44C1-A4F7-8244AA0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2798E-8F6F-418F-8F53-0CC5B620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42905-ED04-493F-8C92-6C1025D8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DD738-4012-4C78-8C54-67AB9F13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7FCC0-7716-4C58-AEEC-C6720E89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1F53D-FEC1-44B9-8658-82F796F1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A80B-C2FF-47AF-BC2A-DDA6468E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E627-A339-43C2-A835-AF4A4E24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1D6C9-1496-44A6-93E3-6ED2BF67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0BAC-7C32-4BB8-B38C-CE671405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FBA06-1ABA-4B8E-BB98-2AA12C27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44E-11C5-484C-9B07-ACA6B1A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079E2-9FFC-42DA-9649-1A08D17A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CDCCC-E370-4558-828C-13C24592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CC885-4E0B-4BB0-8272-ED62FFA0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F03E-1E21-4465-8997-8AAD527C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970B-2653-4151-A994-C5239521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5E368-ECD4-4001-9373-F9DD5783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0D9C8-628A-4C3A-BD30-50B5FD3A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8B0FF-D241-4578-A960-B993E0FB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D0463-4A27-48AE-9A8B-F529CD4D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B54C-87F5-44B9-807E-B5A6B1EB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B1F-8FD1-4D9E-8896-1B413047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6FF5F-89CE-4357-A299-EE05A469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FEB6A-7EE6-44CA-B075-01CC9D7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59DA-B32B-4432-8CBA-BD6ABE8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DF78-1173-4130-ACB5-7B8469FD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1C8DD-9E83-4945-A5E2-8BA6A31B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9A09B-283D-4707-9AC0-AB1E0401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3AC8B-961E-420F-8E9D-7952C6B3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174A9-32CD-4F7D-B023-C8985D46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41DC-1C4E-47E4-96E7-A9F91A87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4EC54-F220-433C-AF6D-CF28CBA5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2963-02AD-455A-B8DE-C09A6B8F48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6C8E-8284-4D65-8146-0805747722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FF51-A833-490D-BC2E-D575C861E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63BD-7926-45C4-BA95-C1E214103E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1250-568F-4423-AD28-6400055E37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7C20-7AD8-4F7A-8012-4D8775492E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B06D-8030-43CE-A37A-F3989A349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C716-54A6-4F1D-9138-844DEC5B4B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7936-45E5-4671-B706-17C2C2338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B595-0230-4B7B-83EF-6952EBBBCA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620-207F-442B-A2C6-FA9C11860F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2827-6251-4816-908E-E0F4A22343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A4B5-9FA8-4D79-957C-0825347BF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539D-0CBA-439F-B89B-6C89F413D4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0062-0C6D-449A-9E44-67C130B4BF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EDFE-10E3-448B-A2E8-CC2F84BEEE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3C43-E6E9-460B-82A7-AD0831BA28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B6E9-480E-49DC-A396-B20A6C7FCE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F7C-C251-4593-ABA7-B220FAE9FC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C5BE-27B6-469B-BE32-D9FEB934BD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ADD2-5CC7-458E-8342-F32258C93C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0BEA-1411-4B4A-98A3-91A9BB571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68D2-CEF3-4DB5-BD18-67F16C7996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23EE-66EC-4727-A33D-1B775F9ABA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1F5A-4A17-452F-B0CA-9E8A67F1A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15BC-6402-4682-8642-130D290015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CD68-E2F6-4281-9C86-1618E8B17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F967-CA5A-45A6-9913-52479A5D6D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F47D-C99F-4D64-83B8-028EE5BC8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BFBE-F464-42B9-8094-F9B16109DB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81FA-DA73-448B-91A9-0E30BDF7B9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83C1-2CB5-45ED-90F4-70EDA64240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DC52-7898-45C9-AE51-EEFA6C7EB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AC5F-B10F-4ECE-81CF-407AE2CB1C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DC19-80FD-4BE8-836B-4DC32E46A3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252-D9DC-47DD-8747-23CD76EF2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4D6E-BED3-42F7-A4A3-E0BAA98B0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481-765A-4370-B2B8-5266C12CBB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EDC7-DF15-4FD1-AC4F-C9104AF609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D889-FC3D-45B3-A87B-7B267934B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76480" y="3000240"/>
            <a:ext cx="67910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69633" descr=""/>
          <p:cNvPicPr/>
          <p:nvPr/>
        </p:nvPicPr>
        <p:blipFill>
          <a:blip r:embed="rId1"/>
          <a:stretch/>
        </p:blipFill>
        <p:spPr>
          <a:xfrm>
            <a:off x="252360" y="938160"/>
            <a:ext cx="86392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8609" descr=""/>
          <p:cNvPicPr/>
          <p:nvPr/>
        </p:nvPicPr>
        <p:blipFill>
          <a:blip r:embed="rId1"/>
          <a:stretch/>
        </p:blipFill>
        <p:spPr>
          <a:xfrm>
            <a:off x="1033560" y="1571760"/>
            <a:ext cx="7076880" cy="3714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1042920" y="1671480"/>
            <a:ext cx="6842160" cy="49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900000" y="2421000"/>
            <a:ext cx="6842160" cy="493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6842160" cy="4939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684360" y="3933720"/>
            <a:ext cx="6841800" cy="493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755640" y="4681440"/>
            <a:ext cx="68421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1128600"/>
            <a:ext cx="8601120" cy="4600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012000" y="3170160"/>
            <a:ext cx="576000" cy="1050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740720" y="3068640"/>
            <a:ext cx="576360" cy="1050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236000" y="4365720"/>
            <a:ext cx="576000" cy="1050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050920" y="5013360"/>
            <a:ext cx="5763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09480" y="981000"/>
            <a:ext cx="7925040" cy="4896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195640" y="155736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6226200" y="270828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1979640" y="328464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4024440" y="328464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1447920" y="5373720"/>
            <a:ext cx="10825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8"/>
          <a:stretch/>
        </p:blipFill>
        <p:spPr>
          <a:xfrm>
            <a:off x="1476360" y="4826160"/>
            <a:ext cx="10825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299880" y="765000"/>
            <a:ext cx="8544240" cy="6086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2556000" y="20178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093080" y="337176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451640" y="50133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95200" y="976320"/>
            <a:ext cx="8553600" cy="49053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403280" y="3357720"/>
            <a:ext cx="2232000" cy="934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332000" y="4379760"/>
            <a:ext cx="2232000" cy="935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332000" y="5343480"/>
            <a:ext cx="3168720" cy="934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364000" y="360216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5364000" y="458136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5292720" y="5388120"/>
            <a:ext cx="316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785880" y="1481040"/>
            <a:ext cx="7572240" cy="3895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9744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971640" y="4638600"/>
            <a:ext cx="30970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148360" y="2579760"/>
            <a:ext cx="3097080" cy="920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5148360" y="3573360"/>
            <a:ext cx="3097080" cy="9208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5292720" y="4581360"/>
            <a:ext cx="30970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5300" descr=""/>
          <p:cNvPicPr/>
          <p:nvPr/>
        </p:nvPicPr>
        <p:blipFill>
          <a:blip r:embed="rId1"/>
          <a:stretch/>
        </p:blipFill>
        <p:spPr>
          <a:xfrm>
            <a:off x="314280" y="800280"/>
            <a:ext cx="8515440" cy="5257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187308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885960" y="327024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215928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958680" y="4710240"/>
            <a:ext cx="21592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900000" y="5445000"/>
            <a:ext cx="215928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3406680" y="327024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3348000" y="400536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3478320" y="4781520"/>
            <a:ext cx="215892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3419640" y="5516640"/>
            <a:ext cx="2158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1047600" y="1452600"/>
            <a:ext cx="7048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538200" y="1990800"/>
            <a:ext cx="8067600" cy="2876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280800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3564000" y="2205000"/>
            <a:ext cx="2016000" cy="1008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5651640" y="2205000"/>
            <a:ext cx="2016000" cy="1008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395280" y="3400560"/>
            <a:ext cx="8280360" cy="6476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324000" y="4149720"/>
            <a:ext cx="828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9:1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